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7F176-4F89-4646-96DF-4F0824E97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E8A69-27BF-4A85-BA8F-37AFCB4A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C261B-AC94-41D3-8133-C44491B3B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5AFF7-2641-407E-AFFB-9D10901F2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EC17E-D4E0-45F2-864E-B83814D0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C57DD-E820-40BF-A73B-3A717C38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C2A8B-486F-40B7-8E86-96A790E1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50EDD-1705-4576-B586-D6506154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1CDE4-B3F1-4434-9D8E-3B184AAB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EAC82-3F06-42DF-BAE3-BDB0A828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64724-30E0-4D1B-B4F5-F1C8FBDB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E415E-817B-4F42-972C-D0843271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159B-85B3-447C-B0FC-0F92CFCC25C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560" y="1052280"/>
            <a:ext cx="5116680" cy="23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8600"/>
                </a:solidFill>
                <a:latin typeface="Arial"/>
              </a:rPr>
              <a:t>Психолого-педагогические рекомендации для воспитателей по профилактике форм аутодеструктивного поведения у детей</a:t>
            </a:r>
            <a:endParaRPr b="0" lang="en-US" sz="2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71640" y="3886200"/>
            <a:ext cx="7416720" cy="22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Участники проекта: Ялтанская Ольга Владимировна педагог-психолог высшей квалификационной категории, МАДОУ «Детский сад № 25 комбинированного вида» Кировского района г. Казани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Эммануйлова Ольга Николаевна педагог-психолог высшей квалификационной категории, МАДОУ «Детский сад № 95 комбинированного вида» Кировского района г. Казани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Ханафеева Алсу Кашафовна педагог-психолог первой квалификационной категории, МАДОУ «Детский сад № 147 воспитания и обучения на татарском языке» Кировского района г. Казани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2" descr="E:\картинки суицид\3012243.jpg"/>
          <p:cNvPicPr/>
          <p:nvPr/>
        </p:nvPicPr>
        <p:blipFill>
          <a:blip r:embed="rId1"/>
          <a:stretch/>
        </p:blipFill>
        <p:spPr>
          <a:xfrm>
            <a:off x="5796000" y="134784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00000" y="1196640"/>
            <a:ext cx="7315200" cy="80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8600"/>
                </a:solidFill>
                <a:latin typeface="Arial"/>
              </a:rPr>
              <a:t>факторы социального риска в семье</a:t>
            </a:r>
            <a:endParaRPr b="0" lang="en-US" sz="32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циально-экономическ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дико-социальны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циально-демографиче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циально-психологическ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сихолого-педагогическ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миналь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оязычные семь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2" descr="E:\картинки суицид\040318947.JPG"/>
          <p:cNvPicPr/>
          <p:nvPr/>
        </p:nvPicPr>
        <p:blipFill>
          <a:blip r:embed="rId1"/>
          <a:stretch/>
        </p:blipFill>
        <p:spPr>
          <a:xfrm>
            <a:off x="5580000" y="2852640"/>
            <a:ext cx="273708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54080" y="260280"/>
            <a:ext cx="272880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8600"/>
                </a:solidFill>
                <a:latin typeface="Arial"/>
              </a:rPr>
              <a:t>Выводы</a:t>
            </a:r>
            <a:endParaRPr b="0" lang="en-US" sz="36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5" name="Объект 2"/>
          <p:cNvSpPr/>
          <p:nvPr/>
        </p:nvSpPr>
        <p:spPr>
          <a:xfrm>
            <a:off x="611280" y="765000"/>
            <a:ext cx="820872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сихолого-педагогическое сопровождение детей в образовательном пространстве является сегодня одним из признаков позитивного развития системы образова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атус специалистов системы сопровождения  и отдельных ее уровней требует более четкого юридического определения, кадрового и материально-технического обеспеч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ногие проблемы в деятельности служб сопровождения обусловлены разобщенностью усилий различных групп специалистов, работающих с детьми и отсутствием информационного обеспечения деятельности специалистов: психологов, логопедов, дефектолог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читаем необходимым  обобщение опыта служб сопровождения детей в образовательных учреждениях в форме презентаций, «круглых столов», семинаров для администрации образовательных учрежде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ктивизировать процесс сотрудничества с учреждениями здравоохранения, соц. защиты и др. ведомств по вопросам сопровождения дет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Скругленный прямоугольник 3"/>
          <p:cNvSpPr/>
          <p:nvPr/>
        </p:nvSpPr>
        <p:spPr>
          <a:xfrm>
            <a:off x="324000" y="1557360"/>
            <a:ext cx="8618400" cy="1366920"/>
          </a:xfrm>
          <a:prstGeom prst="roundRect">
            <a:avLst>
              <a:gd name="adj" fmla="val 16667"/>
            </a:avLst>
          </a:prstGeom>
          <a:solidFill>
            <a:srgbClr val="838d9b"/>
          </a:solidFill>
          <a:ln w="19080">
            <a:solidFill>
              <a:srgbClr val="5f6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щита прав, интересов детей и  подростков. Повышение компетентности воспитателей  в вопросах профилактики аутодеструктивного поведения у дете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Овал 4"/>
          <p:cNvSpPr/>
          <p:nvPr/>
        </p:nvSpPr>
        <p:spPr>
          <a:xfrm flipV="1" rot="10800000">
            <a:off x="1428840" y="362520"/>
            <a:ext cx="6408720" cy="1368360"/>
          </a:xfrm>
          <a:prstGeom prst="ellipse">
            <a:avLst/>
          </a:prstGeom>
          <a:solidFill>
            <a:srgbClr val="b5bbc3"/>
          </a:solidFill>
          <a:ln w="19080">
            <a:solidFill>
              <a:srgbClr val="5f6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ель проекта: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Скругленный прямоугольник 6"/>
          <p:cNvSpPr/>
          <p:nvPr/>
        </p:nvSpPr>
        <p:spPr>
          <a:xfrm>
            <a:off x="324000" y="4005360"/>
            <a:ext cx="8618400" cy="2716200"/>
          </a:xfrm>
          <a:prstGeom prst="roundRect">
            <a:avLst>
              <a:gd name="adj" fmla="val 16667"/>
            </a:avLst>
          </a:prstGeom>
          <a:solidFill>
            <a:srgbClr val="838d9b"/>
          </a:solidFill>
          <a:ln w="19080">
            <a:solidFill>
              <a:srgbClr val="5f6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питание уважительного отношения к личности ребенка,  к правам и интересам других люде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паганда здорового образа жизн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филактика девиантного и аутодеструктивного поведения детей и подрост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Овал 5"/>
          <p:cNvSpPr/>
          <p:nvPr/>
        </p:nvSpPr>
        <p:spPr>
          <a:xfrm flipV="1" rot="10800000">
            <a:off x="1428840" y="2923200"/>
            <a:ext cx="6408720" cy="1368360"/>
          </a:xfrm>
          <a:prstGeom prst="ellipse">
            <a:avLst/>
          </a:prstGeom>
          <a:solidFill>
            <a:srgbClr val="b5bbc3"/>
          </a:solidFill>
          <a:ln w="19080">
            <a:solidFill>
              <a:srgbClr val="5f6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дачи: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8600"/>
                </a:solidFill>
                <a:latin typeface="Arial"/>
              </a:rPr>
              <a:t>Статистика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71640" y="3428640"/>
            <a:ext cx="731520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России частота суицидальных действий среди молодежи, в течение последних двух десятилетий удвоилась. У 30% лиц в возрасте 14 – 24 лет бывают суицидальные мысли, 6% юношей и 10% девушек совершают суицидальные действия. Некоторые специалисты пишут о том, что в 10% суицидальное поведение имеет цель покончить собой, и в 90% суицидальное поведение подростка – это привлечение к себе внима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E:\картинки суицид\ZHivite_s_bogom.jpg"/>
          <p:cNvPicPr/>
          <p:nvPr/>
        </p:nvPicPr>
        <p:blipFill>
          <a:blip r:embed="rId1"/>
          <a:stretch/>
        </p:blipFill>
        <p:spPr>
          <a:xfrm>
            <a:off x="4788000" y="361800"/>
            <a:ext cx="2832120" cy="28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315200" cy="80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600"/>
                </a:solidFill>
                <a:latin typeface="Arial"/>
              </a:rPr>
              <a:t>Отношение к смерти детей в разные периоды жизни</a:t>
            </a:r>
            <a:endParaRPr b="0" lang="en-US" sz="2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26920" y="11966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дошкольном возраст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смерть близких, домашнего животного или сверстника из-за особенностей мышления и ограниченности опыта осознается ребенком как результат его желаний, что нередко приводит к сильному чувству ви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младшем школьном возраст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дети считают смерть маловероятной, не осознают ее возможности для себя, не считают необратим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ля подростк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мерть становится более очевидным явлением. Но они фактически отрицают ее для себ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2" descr="E:\картинки суицид\Enfant-qui-saute.jpg"/>
          <p:cNvPicPr/>
          <p:nvPr/>
        </p:nvPicPr>
        <p:blipFill>
          <a:blip r:embed="rId1"/>
          <a:stretch/>
        </p:blipFill>
        <p:spPr>
          <a:xfrm>
            <a:off x="2268360" y="4653000"/>
            <a:ext cx="476280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54900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600"/>
                </a:solidFill>
                <a:latin typeface="Arial"/>
              </a:rPr>
              <a:t>Особенности суицидального поведения детей в разные периоды жизни</a:t>
            </a:r>
            <a:endParaRPr b="0" lang="en-US" sz="2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14040" y="1557360"/>
            <a:ext cx="57452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476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Суицидальное поведение в детском возрасте носит характер ситуационно-личностных реакций, т. е. связано собственно не с самим желанием умереть, а со стремлением избежать стрессовых ситуаций или наказания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76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Самоубийство в детском возрасте побуждается гневом, страхом, желанием наказать себя или других нередко суицидальное поведение сочетается с другими поведенческими проблемами, например прогулами школы или конфликтам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76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Возникновению суицидального поведения также способствуют тревожные и депрессивные состояни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76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В целом можно говорить о значительном влиянии на суицидальное поведение подростков межличностных отношений со сверстниками и родителям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3" descr="E:\картинки суицид\52326_original.jpg"/>
          <p:cNvPicPr/>
          <p:nvPr/>
        </p:nvPicPr>
        <p:blipFill>
          <a:blip r:embed="rId1"/>
          <a:stretch/>
        </p:blipFill>
        <p:spPr>
          <a:xfrm>
            <a:off x="6516720" y="3025800"/>
            <a:ext cx="22208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15800" y="333360"/>
            <a:ext cx="7094520" cy="57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600"/>
                </a:solidFill>
                <a:latin typeface="Arial"/>
              </a:rPr>
              <a:t>Признаки психоэмоционального напряжения</a:t>
            </a:r>
            <a:endParaRPr b="0" lang="en-US" sz="2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026720" y="1196640"/>
            <a:ext cx="7364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60000"/>
              </a:lnSpc>
              <a:spcBef>
                <a:spcPts val="476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Беспокойство, непоседливость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60000"/>
              </a:lnSpc>
              <a:spcBef>
                <a:spcPts val="476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Повышенная тревожность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60000"/>
              </a:lnSpc>
              <a:spcBef>
                <a:spcPts val="476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Рассеянность, невнимательность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60000"/>
              </a:lnSpc>
              <a:spcBef>
                <a:spcPts val="476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Проявление упрямств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76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Игра с половыми органам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76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Трудность засыпания и беспокойный сон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76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Подергивание плечами, качание головой, дрожание рук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76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Дневное и ночное недержание мочи, которое ранее не наблюдалось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76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Снижение массы тела или, напротив, проявление симптомов ожирени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76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Усталость после нагрузки, неприсущая ранее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76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Беспричинная обидчивость, плаксивость или, наоборот, повышенная агрессивность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76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Отсутствие уверенности в себе, ищет одобрения у взрослых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76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Постоянно сосет палец, жует что-нибудь, слишком жадно  или нарушение аппетит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76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Боязнь контактов, стремление к уединению, отказ участвовать в играх сверстник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Объект 2"/>
          <p:cNvSpPr/>
          <p:nvPr/>
        </p:nvSpPr>
        <p:spPr>
          <a:xfrm>
            <a:off x="1027080" y="1666800"/>
            <a:ext cx="383688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182520">
              <a:lnSpc>
                <a:spcPct val="80000"/>
              </a:lnSpc>
              <a:spcBef>
                <a:spcPts val="40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2560" y="1294920"/>
            <a:ext cx="672948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600"/>
                </a:solidFill>
                <a:latin typeface="Arial"/>
              </a:rPr>
              <a:t>Принципы профилактической работы аутодеструктивного поведения у детей</a:t>
            </a:r>
            <a:endParaRPr b="0" lang="en-US" sz="2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лостного подхода в профилакти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стем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ережающее сопровожд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E:\картинки суицид\ea3268cc7e8c8915c98df747c5b3c7cc.jpg"/>
          <p:cNvPicPr/>
          <p:nvPr/>
        </p:nvPicPr>
        <p:blipFill>
          <a:blip r:embed="rId1"/>
          <a:stretch/>
        </p:blipFill>
        <p:spPr>
          <a:xfrm>
            <a:off x="6516720" y="2781360"/>
            <a:ext cx="244296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3152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600"/>
                </a:solidFill>
                <a:latin typeface="Arial"/>
              </a:rPr>
              <a:t>Формы профилактики аутодеструктивного  поведения у детей</a:t>
            </a:r>
            <a:endParaRPr b="0" lang="en-US" sz="2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4360" y="1412640"/>
            <a:ext cx="69832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рганизация социальной сре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формиров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ктивное обучение социально-важным навыка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рганизация деятельности, альтернативной деви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рганизация здорового образа жиз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ктивизация личностных ресур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нимизация негативных последствий девиантного повед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2" descr="E:\картинки суицид\126487.jpg"/>
          <p:cNvPicPr/>
          <p:nvPr/>
        </p:nvPicPr>
        <p:blipFill>
          <a:blip r:embed="rId1"/>
          <a:stretch/>
        </p:blipFill>
        <p:spPr>
          <a:xfrm>
            <a:off x="5364000" y="4592520"/>
            <a:ext cx="302436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70567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600"/>
                </a:solidFill>
                <a:latin typeface="Arial"/>
              </a:rPr>
              <a:t>Игровые технологии профилактики и коррекции отклоняющегося поведения дошкольников  </a:t>
            </a:r>
            <a:endParaRPr b="0" lang="en-US" sz="2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26920" y="1628640"/>
            <a:ext cx="7315200" cy="23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гры с правилами, игры-соревн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гры-драматизации, образно-ролевые иг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ллективные дидактические игр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южетно-ролевая игр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сихотехнические освобождающие игры и режиссерские иг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2" descr="E:\картинки суицид\10(37).jpg"/>
          <p:cNvPicPr/>
          <p:nvPr/>
        </p:nvPicPr>
        <p:blipFill>
          <a:blip r:embed="rId1"/>
          <a:stretch/>
        </p:blipFill>
        <p:spPr>
          <a:xfrm>
            <a:off x="4716360" y="3573360"/>
            <a:ext cx="378792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14:05:29Z</dcterms:created>
  <dc:creator>Василёк</dc:creator>
  <dc:description/>
  <dc:language>en-US</dc:language>
  <cp:lastModifiedBy>user</cp:lastModifiedBy>
  <dcterms:modified xsi:type="dcterms:W3CDTF">2015-09-29T04:30:27Z</dcterms:modified>
  <cp:revision>22</cp:revision>
  <dc:subject/>
  <dc:title>Психолого-педагогические рекомендации для воспитателей по профилактике форм аутодеструктивного поведения у детей</dc:title>
</cp:coreProperties>
</file>